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81E-5A9C-4C64-A191-206DD34C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911-9756-4024-90C0-60B9228B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44B-66C3-499A-BF5A-31C7A7DF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C27-C373-467D-99AC-1F79603D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379F-DBE3-4CB2-B357-9CDCEBE8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1897-BCF8-456A-B188-41F85CE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DA04-12C9-4763-BF91-A116FD3B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BBB2-9EAB-48ED-AE28-BE16B95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554A-7D57-4313-BC69-76C33E3F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CD66-C22B-4AB8-A7CF-CC090DB2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B86-896D-4BC4-A154-E8B309E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1F1-BB57-4088-9E4E-0BFDE0E6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3970-F6F0-407C-8A38-183F4B2F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455F-16F1-45A2-B19D-CDAA45C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3BC2-6402-4778-AF76-A02B77B1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D965-8523-48FA-93CA-70D3507B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D543-790E-4198-9901-6EDE1A01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4AED-B0DC-4411-96EA-6B35508C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944B-271E-4BDA-8C42-09FFC77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CF9B-BECE-4DD6-8573-5E31AC78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2990-F30D-4A5A-9D27-2E2431E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F423-E87F-46B4-B516-4DEC1C3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AA2-E638-4419-AFA6-20EC4085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64DB-FFD9-48FF-984B-7632C79D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129E-05E9-4DA3-9C21-193DB514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33B9-5186-4E22-A8D2-E6E10AE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F7B6-E901-4A37-B75D-8D5FDC3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9CD6-111B-416F-A2D2-AA9BBB1D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E727-92B7-49A6-8ABF-EB77FC10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156C-36E5-45B5-BF6F-D16B0483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A89B-691F-4C74-9153-31262C59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DC529-85FA-4978-BA79-9B1F1ADF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8D32-656F-4AE7-895E-52835B1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F3A-3010-4EEC-B025-F752413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2F33-47F3-48D4-B7FB-5AD610BC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16AE-DC55-4392-9604-FA3BBE61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E095-2AD7-4410-A8E3-DF92A2D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DECE-89B5-49F8-B4E5-80504B9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FF19-F6C2-4BEF-943E-854400C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9A6C-D141-4387-8DCD-16B5DCD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E4E9-1AB9-456F-AFB8-8D0BCDFB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2D70-D4A8-4E14-926C-4F317278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6E0A-E8FD-4439-B1AD-566E983B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7C27-E264-4EB8-A6C1-3ACA2BDA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1CD-9020-40A9-B2D8-DB09FC6A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BE36-F753-4532-A955-767A0CD5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4E5A-9EE2-4700-9336-051E1973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EBF37-6610-4FE7-A8BC-90A4A582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99AF-E6EE-435B-B66F-EE0D86C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9CE6-9734-4561-934B-700D020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764D1-334B-41E7-A757-EF1318B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FB74-0B1F-4B03-92AA-4368821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2281-6EF4-494A-B92C-6E05E5D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3EB8-994C-4164-B7E2-D0992176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58278-ECA8-457F-AB31-27C38A97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560-B2CD-4246-8DBD-77B811AE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E1767-8035-4723-B37A-FBBCE40B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C8E0-677A-40F7-B63E-7D5494B9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CBFBB-CE78-42F0-8490-33A6B05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FF31-116F-48BE-82DE-AA80B3C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C853E-507F-4C30-93E6-72E822F7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F9F14-951B-4561-AC64-B3D02D7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E57E-58A9-48BE-BD09-B604EE43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05D4-669B-451A-A9E8-3362978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274AE-D49B-4CB3-89D5-E21ED30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22BE2-3520-4D63-94AB-4F2067E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F9C-0B13-486E-87BC-113A321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52601-A09C-47BC-8A92-F401AE90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4C7CE-EFB6-4655-862C-01D1FB0C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2251-5151-4870-8A79-DE9AE306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C78-6F2A-4819-8DEC-7DA1F46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D90-B78D-466F-AEB9-CBDB8D0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EEA-45E3-4469-A953-9593BCDB5C8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E2C-50B0-40D0-A11D-E0DBD9FD0A61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03C8-80BB-481E-9819-C5A0F33B15B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3E75-C619-49AF-AF62-B17D7374F26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10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146-4FDF-4FB4-89E2-D0736B511D15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7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E2D-34FD-4227-8886-EF4D80CD52BA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894880" cy="11397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364000" y="1125360"/>
            <a:ext cx="360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e3b30"/>
                </a:solidFill>
                <a:latin typeface="Franklin Gothic Book"/>
              </a:rPr>
              <a:t>Nos encontramos en la periferia latitudinal y altitudinal de las zonas con relieve glacia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e3b30"/>
                </a:solidFill>
                <a:latin typeface="Franklin Gothic Book"/>
              </a:rPr>
              <a:t>El agente modelador es el efecto hielo-deshielo</a:t>
            </a:r>
            <a:r>
              <a:rPr b="0" lang="es-ES" sz="2000" spc="-1" strike="noStrike">
                <a:solidFill>
                  <a:srgbClr val="4e3b30"/>
                </a:solidFill>
                <a:latin typeface="Franklin Gothic Book"/>
              </a:rPr>
              <a:t>, que provoca gelifracción, que se produce cuando el agua penetra en las diaclasas y se congela, rompiendo la roca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e3b30"/>
                </a:solidFill>
                <a:latin typeface="Franklin Gothic Book"/>
              </a:rPr>
              <a:t>La acumulación de rocas gelifraccionadas da lugar a canchales o depósitos de fragmentos en taludes y conos de derrubio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e3b30"/>
                </a:solidFill>
                <a:latin typeface="Franklin Gothic Book"/>
              </a:rPr>
              <a:t>En áreas llanas se desarrollan suelos poligonales y almohadillado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4" name="Picture 5" descr="periglaciarismo_gelifraccion_04"/>
          <p:cNvPicPr/>
          <p:nvPr/>
        </p:nvPicPr>
        <p:blipFill>
          <a:blip r:embed="rId2"/>
          <a:stretch/>
        </p:blipFill>
        <p:spPr>
          <a:xfrm>
            <a:off x="900000" y="1104840"/>
            <a:ext cx="3816360" cy="2475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Ibias_Muniellos_Valdebois_Canchal_con_Colmenas"/>
          <p:cNvPicPr/>
          <p:nvPr/>
        </p:nvPicPr>
        <p:blipFill>
          <a:blip r:embed="rId3"/>
          <a:stretch/>
        </p:blipFill>
        <p:spPr>
          <a:xfrm>
            <a:off x="900000" y="3614760"/>
            <a:ext cx="4392720" cy="2959200"/>
          </a:xfrm>
          <a:prstGeom prst="rect">
            <a:avLst/>
          </a:prstGeom>
          <a:ln w="0">
            <a:noFill/>
          </a:ln>
        </p:spPr>
      </p:pic>
      <p:sp>
        <p:nvSpPr>
          <p:cNvPr id="316" name="WordArt 8"/>
          <p:cNvSpPr txBox="1"/>
          <p:nvPr/>
        </p:nvSpPr>
        <p:spPr>
          <a:xfrm>
            <a:off x="3492360" y="3213000"/>
            <a:ext cx="1524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lifrac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" name="WordArt 9"/>
          <p:cNvSpPr txBox="1"/>
          <p:nvPr/>
        </p:nvSpPr>
        <p:spPr>
          <a:xfrm>
            <a:off x="4067280" y="6165720"/>
            <a:ext cx="1019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ch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04920" y="1553760"/>
            <a:ext cx="8686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Al ser zonas de hielo-deshielo, los suelos se denominan </a:t>
            </a:r>
            <a:r>
              <a:rPr b="1" lang="es-ES_tradnl" sz="2800" spc="-1" strike="noStrike">
                <a:solidFill>
                  <a:srgbClr val="4e3b30"/>
                </a:solidFill>
                <a:latin typeface="Franklin Gothic Book"/>
              </a:rPr>
              <a:t>permafrost</a:t>
            </a: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 porque permanecen helados en superficie una parte del año, pero al deshelarse, esta capa superior se esponja y forma el llamado </a:t>
            </a:r>
            <a:r>
              <a:rPr b="1" lang="es-ES_tradnl" sz="2800" spc="-1" strike="noStrike">
                <a:solidFill>
                  <a:srgbClr val="4e3b30"/>
                </a:solidFill>
                <a:latin typeface="Franklin Gothic Book"/>
              </a:rPr>
              <a:t>mollisuelo</a:t>
            </a: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Al llegar la época de fusión del hielo se producen fenómenos de ladera, que implican deslizamientos de materiales por efecto de las pendient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Veamos los principales </a:t>
            </a:r>
            <a:r>
              <a:rPr b="1" lang="es-ES_tradnl" sz="2800" spc="-1" strike="noStrike">
                <a:solidFill>
                  <a:srgbClr val="4e3b30"/>
                </a:solidFill>
                <a:latin typeface="Franklin Gothic Book"/>
              </a:rPr>
              <a:t>fenómenos de ladera</a:t>
            </a: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50560" y="1125000"/>
            <a:ext cx="56163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Coladas de barro</a:t>
            </a:r>
            <a:r>
              <a:rPr b="0" lang="es-ES_tradnl" sz="2400" spc="-1" strike="noStrike">
                <a:solidFill>
                  <a:srgbClr val="4e3b30"/>
                </a:solidFill>
                <a:latin typeface="Franklin Gothic Book"/>
              </a:rPr>
              <a:t>: los materiales arcillosos, cuando están muy empapados, fluyen ladera abajo resbalando sobre la capa de hielo inferior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2 Marcador de contenido"/>
          <p:cNvSpPr/>
          <p:nvPr/>
        </p:nvSpPr>
        <p:spPr>
          <a:xfrm>
            <a:off x="6012000" y="1197000"/>
            <a:ext cx="295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Reptación o </a:t>
            </a:r>
            <a:r>
              <a:rPr b="0" i="1" lang="es-ES_tradnl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creep</a:t>
            </a:r>
            <a:r>
              <a:rPr b="0" lang="es-ES_tradnl" sz="2000" spc="-1" strike="noStrike">
                <a:solidFill>
                  <a:srgbClr val="4e3b30"/>
                </a:solidFill>
                <a:latin typeface="Franklin Gothic Book"/>
              </a:rPr>
              <a:t>: los materiales que se empapan y se secan alternativamente sufren aumento y reducción alternativa de volumen, lo que hace que vayan deslizándose con lentitud ladera 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ttp://www.uvm.edu/~inquiryb/webquest/sp08/pmontgom/mudslide2.jpg"/>
          <p:cNvPicPr/>
          <p:nvPr/>
        </p:nvPicPr>
        <p:blipFill>
          <a:blip r:embed="rId2"/>
          <a:stretch/>
        </p:blipFill>
        <p:spPr>
          <a:xfrm>
            <a:off x="324000" y="2852640"/>
            <a:ext cx="5608440" cy="3786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ttp://www.madrimasd.org/blogs/universo/wp-content/blogs.dir/42/files/147/o_Reptaci%C3%B3n%20en%20kalipedia%201.png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ttp://www.redes-cepalcala.org/ciencias1/Images5/islandia/geologia/periglaciarismo/periglaciarismo_suelos.almohadillados_01.jpg"/>
          <p:cNvPicPr/>
          <p:nvPr/>
        </p:nvPicPr>
        <p:blipFill>
          <a:blip r:embed="rId2"/>
          <a:stretch/>
        </p:blipFill>
        <p:spPr>
          <a:xfrm>
            <a:off x="150840" y="2276640"/>
            <a:ext cx="8785080" cy="4392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95280" y="1197000"/>
            <a:ext cx="8137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Se producen cuando se congela el agua del mollisuelo y el terreno se eleva por abombamien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ttp://www.madrimasd.org/blogs/universo/wp-content/blogs.dir/42/files/145/o_Gelisuelo%20superficie.jpg"/>
          <p:cNvPicPr/>
          <p:nvPr/>
        </p:nvPicPr>
        <p:blipFill>
          <a:blip r:embed="rId2"/>
          <a:srcRect l="0" t="11107" r="0" b="23488"/>
          <a:stretch/>
        </p:blipFill>
        <p:spPr>
          <a:xfrm>
            <a:off x="1403280" y="2997360"/>
            <a:ext cx="6264360" cy="3816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95280" y="119700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El enfriamiento por debajo de la Tª de congelación implica contracción y retracción de los materiales de manera que se originan grietas poligonales que acaban siendo ocupadas por hiel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651280" y="1484280"/>
            <a:ext cx="3035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Son zonas donde apenas llueve, regiones inhóspitas en las que el viento modela paisajes característicos. Reinos de arena y roca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3" name="Picture 5" descr="Cárcavas en el desierto de Tabernas, Almería."/>
          <p:cNvPicPr/>
          <p:nvPr/>
        </p:nvPicPr>
        <p:blipFill>
          <a:blip r:embed="rId2"/>
          <a:stretch/>
        </p:blipFill>
        <p:spPr>
          <a:xfrm>
            <a:off x="611280" y="1628640"/>
            <a:ext cx="5286240" cy="3981600"/>
          </a:xfrm>
          <a:prstGeom prst="rect">
            <a:avLst/>
          </a:prstGeom>
          <a:ln w="0">
            <a:noFill/>
          </a:ln>
        </p:spPr>
      </p:pic>
      <p:sp>
        <p:nvSpPr>
          <p:cNvPr id="334" name="WordArt 6"/>
          <p:cNvSpPr txBox="1"/>
          <p:nvPr/>
        </p:nvSpPr>
        <p:spPr>
          <a:xfrm>
            <a:off x="1979640" y="5300640"/>
            <a:ext cx="38289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árcavas en el desierto de Tabernas, Almerí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31:07Z</dcterms:created>
  <dc:creator>Pedro F Martinez</dc:creator>
  <dc:description/>
  <dc:language>en-US</dc:language>
  <cp:lastModifiedBy>Usuario</cp:lastModifiedBy>
  <dcterms:modified xsi:type="dcterms:W3CDTF">2012-10-21T20:52:54Z</dcterms:modified>
  <cp:revision>60</cp:revision>
  <dc:subject/>
  <dc:title>AGENTES GEOLÓGICOS EXTERNOS</dc:title>
</cp:coreProperties>
</file>